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9.png" ContentType="image/pn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9A3C-A186-40F3-987C-4DD15FF79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EBA3-1D20-496F-904B-D1DB02BB3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7173-32CD-4A76-92C8-04469FB14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3216-4681-4828-8910-F2389BCEB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A7F72-C291-4981-8C5E-6E40D6A27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23FF2-DABF-4622-A110-B4A22EF47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D534C-6F5F-4267-B78E-EF11F2972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3145A-BE2D-42DE-B859-790026FA8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BCB98-FD02-49D6-BF77-C8E49005F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B1B93-2C13-4B43-AA90-4EB0BF9B0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A364F-1A77-4770-BA71-F2C968016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7B46-199C-4139-9284-84813E43A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67697-F087-47FC-944B-240B27EF6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C692D-CE2B-4289-BF72-97A984269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6D115-FCC9-4DC5-9492-3186C8F08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F945D-D169-4EE9-A7B7-94CE443E4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6B70F-510E-4B4B-B44D-333988D21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8D770D-EF2B-4C2E-8BCF-7D7FC7EA2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E9FB93-6EC8-45B4-860E-DAC7818EA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E8EFB7-F6EF-43F2-8CE6-D92E33293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D7CBED-0C94-4DDE-BFDA-AEE6179DF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C8C287-396D-400B-B8F4-330F85A38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6E9F-C17C-4D90-9910-C594C856B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C1C3A1-FAC6-49BA-9085-102EBD662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C0DE26-8C6B-4C91-8386-270E8E98C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7FAD48-1237-4646-A046-9D59FA96B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50660C-A775-4776-ABCD-528225B93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65D14D-6996-4EF7-AC7D-196F4E454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59154D-BCF4-43ED-981B-7254AF24F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09F830-3AB1-4E98-8767-45A010C73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139DB3-6B09-4E37-9BE8-502490725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FC0F8D-6D10-44B2-9CBF-D1E5CD84E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535E0C-3950-4A54-AE59-F6644CFE0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49E8-CC0B-4EEA-8634-7B209B75D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01F7FC-54B6-4054-807E-27BD8C15D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B8376F-B0A0-4022-B2E7-AAAD644A2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16F41C-3365-44ED-8E52-E07DFF27A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C29E4A-49D7-461B-820C-53436FE68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AB5D40-E403-4E43-8DCD-1A4ED2C75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7F9253-5BEE-4958-A098-4DBDF5F6D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45C33A-A76C-4C3E-A2F8-4E657ACA5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E445F9-76D7-4CD9-9EF0-11BD6002F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458E2A-1F35-4414-9F06-D4B9EA66B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85E7-94DD-43DD-9C31-05DCB906B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1C3F-5B4A-40FD-8AB8-D9A4B3AF1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41FD-3418-47B1-9160-EE6825D8F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DB40-346B-43F2-A8C2-103D7C80B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3C5C-4954-4BB7-8531-5A0B0C533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B9511-8BBC-4064-9582-706C86B2E19A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2FAC0-AB6E-4C1C-8245-E4A6D8F9AA2F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29D7D-8848-4CFB-A9AE-DF0EF54279E1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DA0DD-568E-406D-ABF7-45C56352E72C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1"/>
          <p:cNvSpPr/>
          <p:nvPr/>
        </p:nvSpPr>
        <p:spPr>
          <a:xfrm>
            <a:off x="380880" y="733320"/>
            <a:ext cx="861084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hancing partnership among Africa RISING, NAFAKA and TUBORESHE CHAKULA Programs for fast-tracking delivery and scaling of agricultural technologies in Tanza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Reduced food waste and spoil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brahim Shabani, Abass Adebay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lvanus Mruma, Gabriel Ndungu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osephat Kionaume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rica RISING annual planning Meeting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th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th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ULY, 20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ite Sand Hotel, Dar es sala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itle 1"/>
          <p:cNvSpPr/>
          <p:nvPr/>
        </p:nvSpPr>
        <p:spPr>
          <a:xfrm>
            <a:off x="228600" y="76212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KEY RESULTS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Farmers’ perceptions on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Calibri"/>
              </a:rPr>
              <a:t>postharvest opera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knowledge gap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Table 8" descr=""/>
          <p:cNvPicPr/>
          <p:nvPr/>
        </p:nvPicPr>
        <p:blipFill>
          <a:blip r:embed="rId1"/>
          <a:stretch/>
        </p:blipFill>
        <p:spPr>
          <a:xfrm>
            <a:off x="225360" y="2305080"/>
            <a:ext cx="5492880" cy="4040280"/>
          </a:xfrm>
          <a:prstGeom prst="rect">
            <a:avLst/>
          </a:prstGeom>
          <a:ln w="0">
            <a:noFill/>
          </a:ln>
        </p:spPr>
      </p:pic>
      <p:sp>
        <p:nvSpPr>
          <p:cNvPr id="220" name="Rectangle 3"/>
          <p:cNvSpPr/>
          <p:nvPr/>
        </p:nvSpPr>
        <p:spPr>
          <a:xfrm>
            <a:off x="5867280" y="2362320"/>
            <a:ext cx="3276720" cy="1616760"/>
          </a:xfrm>
          <a:prstGeom prst="rect">
            <a:avLst/>
          </a:prstGeom>
          <a:solidFill>
            <a:srgbClr val="59aa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mplications &amp; required action: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1500" spc="-1" strike="noStrike">
                <a:solidFill>
                  <a:srgbClr val="ffff00"/>
                </a:solidFill>
                <a:latin typeface="Arial"/>
              </a:rPr>
              <a:t>Diverse knowledge gap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Farmers’ traini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Creation and training of commodity storage specialis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itle 1"/>
          <p:cNvSpPr/>
          <p:nvPr/>
        </p:nvSpPr>
        <p:spPr>
          <a:xfrm>
            <a:off x="609480" y="7621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KEY RESULTS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tharvest loss control practic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228600" y="2362320"/>
          <a:ext cx="5257800" cy="3817800"/>
        </p:xfrm>
        <a:graphic>
          <a:graphicData uri="http://schemas.openxmlformats.org/drawingml/2006/table">
            <a:tbl>
              <a:tblPr/>
              <a:tblGrid>
                <a:gridCol w="4114800"/>
                <a:gridCol w="1143000"/>
              </a:tblGrid>
              <a:tr h="395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ontrol measur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erc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Traditional her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s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re-processing 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.5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rtificial chemical control (Insecticides &amp; pesticides)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ff3c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4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ff3ca"/>
                    </a:solidFill>
                  </a:tcPr>
                </a:tc>
              </a:tr>
              <a:tr h="395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Tra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6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roper dry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6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Maintaining hygienic condit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2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roper handling/packag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3" name="Rectangle 2"/>
          <p:cNvSpPr/>
          <p:nvPr/>
        </p:nvSpPr>
        <p:spPr>
          <a:xfrm>
            <a:off x="0" y="457200"/>
            <a:ext cx="3017880" cy="9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9"/>
          <p:cNvSpPr/>
          <p:nvPr/>
        </p:nvSpPr>
        <p:spPr>
          <a:xfrm>
            <a:off x="5562720" y="2362320"/>
            <a:ext cx="3581280" cy="2757960"/>
          </a:xfrm>
          <a:prstGeom prst="rect">
            <a:avLst/>
          </a:prstGeom>
          <a:solidFill>
            <a:srgbClr val="59aa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mplications &amp; required action: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00"/>
                </a:solidFill>
                <a:latin typeface="Arial"/>
              </a:rPr>
              <a:t>Extensive use of pesticides in cereals and legu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Postharvest management training: Introduce improved methods for drying, shelling, storage,  etc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Ensure public health safety by investigating and providing a remedy to potential high pesticide residue in marketed cereals and legu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-360" y="1676160"/>
            <a:ext cx="56386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514440" indent="-5144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0000"/>
              </a:buClr>
              <a:buSzPct val="9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43 lead farmers were trained in Kipelesa and Ngipa  villages of Kiteto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880920" indent="-514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70c0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cal maize shelling practices aiming at reducing food loss and th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long tim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armers spend on crop process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880920" indent="-514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70c0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d drying technology (e.g. by using the collapsible dryer case)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Title 1"/>
          <p:cNvSpPr/>
          <p:nvPr/>
        </p:nvSpPr>
        <p:spPr>
          <a:xfrm>
            <a:off x="609480" y="838080"/>
            <a:ext cx="822960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KEY ACHIEV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5" descr="I:\DCIM\Camera\2015-07-02 11.43.22.jpg"/>
          <p:cNvPicPr/>
          <p:nvPr/>
        </p:nvPicPr>
        <p:blipFill>
          <a:blip r:embed="rId1"/>
          <a:stretch/>
        </p:blipFill>
        <p:spPr>
          <a:xfrm>
            <a:off x="6095880" y="228600"/>
            <a:ext cx="2857680" cy="3809880"/>
          </a:xfrm>
          <a:prstGeom prst="rect">
            <a:avLst/>
          </a:prstGeom>
          <a:ln w="0">
            <a:noFill/>
          </a:ln>
        </p:spPr>
      </p:pic>
      <p:sp>
        <p:nvSpPr>
          <p:cNvPr id="228" name="Rectangle 5"/>
          <p:cNvSpPr/>
          <p:nvPr/>
        </p:nvSpPr>
        <p:spPr>
          <a:xfrm>
            <a:off x="6095880" y="3276720"/>
            <a:ext cx="28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IPERESA VILLAGE, KITETO DISTRI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2" descr="G:\DCIM\129___07\IMG_5076.JPG"/>
          <p:cNvPicPr/>
          <p:nvPr/>
        </p:nvPicPr>
        <p:blipFill>
          <a:blip r:embed="rId2"/>
          <a:stretch/>
        </p:blipFill>
        <p:spPr>
          <a:xfrm>
            <a:off x="6070680" y="4419720"/>
            <a:ext cx="2895480" cy="21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-360" y="1676520"/>
            <a:ext cx="56386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80920" indent="-514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70c0"/>
                </a:solidFill>
                <a:latin typeface="Arial"/>
                <a:ea typeface="Arial"/>
              </a:rPr>
              <a:t>3.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d storage practices (e.g. use of hermetic storage bags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activities are going fine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Title 1"/>
          <p:cNvSpPr/>
          <p:nvPr/>
        </p:nvSpPr>
        <p:spPr>
          <a:xfrm>
            <a:off x="609480" y="838080"/>
            <a:ext cx="822960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KEY ACHIEV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2" descr="I:\DCIM\Camera\2015-07-02 11.16.20.jpg"/>
          <p:cNvPicPr/>
          <p:nvPr/>
        </p:nvPicPr>
        <p:blipFill>
          <a:blip r:embed="rId1"/>
          <a:stretch/>
        </p:blipFill>
        <p:spPr>
          <a:xfrm>
            <a:off x="6477120" y="3524400"/>
            <a:ext cx="2500200" cy="333360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4" descr="I:\DCIM\Camera\2015-07-02 12.01.02.jpg"/>
          <p:cNvPicPr/>
          <p:nvPr/>
        </p:nvPicPr>
        <p:blipFill>
          <a:blip r:embed="rId2"/>
          <a:stretch/>
        </p:blipFill>
        <p:spPr>
          <a:xfrm>
            <a:off x="6477120" y="76320"/>
            <a:ext cx="25146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457200" y="1935000"/>
            <a:ext cx="8229600" cy="461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272880" indent="-272880" algn="just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Train 48 lead farmers in 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ining of trainers</a:t>
            </a: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) four  villages of Kongwa and Mvomero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272880" indent="-272880" algn="just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rt intensification of maize fortification with micronutrient in areas where TUBOCHA was operating micronutrient program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the awareness of processors on proper fortification procedure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FUTURE WORK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inue training of lead farmers on improved postharvest handling practices: shelling, drying and storage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ablish public health safety of  cereals and legumes stored with pesticide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FUTURE WORK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609120" y="1706040"/>
            <a:ext cx="807732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ong expectation of farmers in return for the  information they offered; majority of the farmers were expecting food aid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rmers experienced prolonged dry season and late rainfall which are thought to cause crop failure, causing reduced need for storage technologies as the household food may run-out very quickly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Title 1"/>
          <p:cNvSpPr/>
          <p:nvPr/>
        </p:nvSpPr>
        <p:spPr>
          <a:xfrm>
            <a:off x="609480" y="838080"/>
            <a:ext cx="822960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HALLENGES AND CONSTRA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tharvest management activities have just started because the harvest season for maize is June/Jul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ostharvest team will keep implementing the IR 6 to improve the livelihoods of the smallholder farming communities in the project areas through reduced food loss and consumption of nutrient-dense food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Title 1"/>
          <p:cNvSpPr/>
          <p:nvPr/>
        </p:nvSpPr>
        <p:spPr>
          <a:xfrm>
            <a:off x="609480" y="838080"/>
            <a:ext cx="822960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ONCLUSION  AND RECOMMENDATIONS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Title 1" descr=""/>
          <p:cNvPicPr/>
          <p:nvPr/>
        </p:nvPicPr>
        <p:blipFill>
          <a:blip r:embed="rId1"/>
          <a:stretch/>
        </p:blipFill>
        <p:spPr>
          <a:xfrm>
            <a:off x="530280" y="2822400"/>
            <a:ext cx="7742160" cy="14446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2" descr="https://encrypted-tbn3.gstatic.com/images?q=tbn:ANd9GcTqGbQx8ihsnIQDjkt_WTAIpj7IkuwUHV3fvUytXDUfWJ30NIiHxw"/>
          <p:cNvPicPr/>
          <p:nvPr/>
        </p:nvPicPr>
        <p:blipFill>
          <a:blip r:embed="rId2"/>
          <a:stretch/>
        </p:blipFill>
        <p:spPr>
          <a:xfrm>
            <a:off x="228600" y="685800"/>
            <a:ext cx="4876920" cy="12193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4" descr="https://encrypted-tbn0.gstatic.com/images?q=tbn:ANd9GcQFfRd58MYaM_0rAWLbDpwffKO1Bk9-EI7uogj0YIV6ag5K2Xx6"/>
          <p:cNvPicPr/>
          <p:nvPr/>
        </p:nvPicPr>
        <p:blipFill>
          <a:blip r:embed="rId3"/>
          <a:stretch/>
        </p:blipFill>
        <p:spPr>
          <a:xfrm>
            <a:off x="7238880" y="762120"/>
            <a:ext cx="135252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304560" y="1143000"/>
            <a:ext cx="88390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SUMMARY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OBJECTIVES 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PARTNERS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KEY RESULTS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KEY ACHIEVEMENT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FUTURE WORK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CHALLENGES AND CONSTRAINTS FACED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BEST ACTIVITIES AND IMPROVEMENT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CONCLUSION AND RECOMMENDATIONS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Title 1"/>
          <p:cNvSpPr/>
          <p:nvPr/>
        </p:nvSpPr>
        <p:spPr>
          <a:xfrm>
            <a:off x="457200" y="533520"/>
            <a:ext cx="434340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3" descr="G:\DCIM\129___07\IMG_5073.JPG"/>
          <p:cNvPicPr/>
          <p:nvPr/>
        </p:nvPicPr>
        <p:blipFill>
          <a:blip r:embed="rId1"/>
          <a:stretch/>
        </p:blipFill>
        <p:spPr>
          <a:xfrm>
            <a:off x="4775040" y="1143000"/>
            <a:ext cx="436896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228600" y="1142640"/>
            <a:ext cx="8763120" cy="6095880"/>
          </a:xfrm>
          <a:prstGeom prst="rect">
            <a:avLst/>
          </a:prstGeom>
          <a:noFill/>
          <a:ln w="0">
            <a:noFill/>
          </a:ln>
        </p:spPr>
        <p:txBody>
          <a:bodyPr tIns="0" bIns="0"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Postharvest food loss is a challenge that contributes to food insecurity and reduces the income of millions of smallholder farme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Postharvest loss of grains and legumes ranged from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20 – 40%  at the time of harves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5% during shelling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15 – 25% or up to 90% during storag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Postharvest loss of  vegetables ≥ 30%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poor handling,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inadequate storage conditions and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damage during transportation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Title 1"/>
          <p:cNvSpPr/>
          <p:nvPr/>
        </p:nvSpPr>
        <p:spPr>
          <a:xfrm>
            <a:off x="609480" y="533520"/>
            <a:ext cx="822960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0" y="1523520"/>
            <a:ext cx="46483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14000"/>
              </a:lnSpc>
              <a:spcBef>
                <a:spcPts val="700"/>
              </a:spcBef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Many simple tools and approaches for reducing the losses exist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14000"/>
              </a:lnSpc>
              <a:spcBef>
                <a:spcPts val="700"/>
              </a:spcBef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14000"/>
              </a:lnSpc>
              <a:spcBef>
                <a:spcPts val="700"/>
              </a:spcBef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Uptake and adoption by smallholder farmers remain limited due to lack of awareness and skills to use them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14000"/>
              </a:lnSpc>
              <a:spcBef>
                <a:spcPts val="700"/>
              </a:spcBef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2" name="Picture 2" descr="G:\DCIM\129___07\IMG_5072.JPG"/>
          <p:cNvPicPr/>
          <p:nvPr/>
        </p:nvPicPr>
        <p:blipFill>
          <a:blip r:embed="rId1"/>
          <a:stretch/>
        </p:blipFill>
        <p:spPr>
          <a:xfrm>
            <a:off x="4724280" y="914400"/>
            <a:ext cx="4419720" cy="3314880"/>
          </a:xfrm>
          <a:prstGeom prst="rect">
            <a:avLst/>
          </a:prstGeom>
          <a:ln w="0">
            <a:noFill/>
          </a:ln>
        </p:spPr>
      </p:pic>
      <p:sp>
        <p:nvSpPr>
          <p:cNvPr id="203" name="Title 1"/>
          <p:cNvSpPr/>
          <p:nvPr/>
        </p:nvSpPr>
        <p:spPr>
          <a:xfrm>
            <a:off x="609480" y="533520"/>
            <a:ext cx="822960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152280" y="1599840"/>
            <a:ext cx="8305920" cy="492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914400" indent="-246240" algn="just">
              <a:lnSpc>
                <a:spcPct val="100000"/>
              </a:lnSpc>
              <a:spcBef>
                <a:spcPts val="700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e and provide improved innovation and technologies that improve harvesting, processing and storage of cereals and legumes to increase food security and safet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 algn="just">
              <a:lnSpc>
                <a:spcPct val="100000"/>
              </a:lnSpc>
              <a:spcBef>
                <a:spcPts val="700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mote post harvest management technologies to reduce losses and bring quality up to market standard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Objective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6" name=""/>
          <p:cNvGraphicFramePr/>
          <p:nvPr/>
        </p:nvGraphicFramePr>
        <p:xfrm>
          <a:off x="228600" y="1447920"/>
          <a:ext cx="8686800" cy="4494240"/>
        </p:xfrm>
        <a:graphic>
          <a:graphicData uri="http://schemas.openxmlformats.org/drawingml/2006/table">
            <a:tbl>
              <a:tblPr/>
              <a:tblGrid>
                <a:gridCol w="533520"/>
                <a:gridCol w="2819160"/>
                <a:gridCol w="609840"/>
                <a:gridCol w="1218960"/>
                <a:gridCol w="914400"/>
                <a:gridCol w="914400"/>
                <a:gridCol w="914400"/>
                <a:gridCol w="762120"/>
              </a:tblGrid>
              <a:tr h="946440"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/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NDICA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ARG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DISTRI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ACHIEV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ACHIEVEMENT (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EMA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A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320">
                <a:tc rowSpan="3"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umber of farmers and others who have applied new technologies or management practices as a result of USG assist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KITE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.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KONGW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VOM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160">
                <a:tc rowSpan="3"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umber of rural households benefiting directly from USG interven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KITE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0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KONGW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VOM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7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4"/>
          <p:cNvSpPr/>
          <p:nvPr/>
        </p:nvSpPr>
        <p:spPr>
          <a:xfrm>
            <a:off x="838080" y="609480"/>
            <a:ext cx="71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ARGET BENEFITIA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ARTNER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04560" y="1676160"/>
            <a:ext cx="830556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lnSpc>
                <a:spcPct val="100000"/>
              </a:lnSpc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NAFAKA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TUBOCHA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Center for Counseling, Nutrition and Health Care (COUNSENUTH)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TrueFood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Pee Pee (T) Ltd – PICS bag manufacturer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1" descr="C:\Users\Simon Boniface\Desktop\For Ibrahim\Map showing the villages.png"/>
          <p:cNvPicPr/>
          <p:nvPr/>
        </p:nvPicPr>
        <p:blipFill>
          <a:blip r:embed="rId1"/>
          <a:stretch/>
        </p:blipFill>
        <p:spPr>
          <a:xfrm>
            <a:off x="457200" y="1981080"/>
            <a:ext cx="6324480" cy="4619880"/>
          </a:xfrm>
          <a:prstGeom prst="rect">
            <a:avLst/>
          </a:prstGeom>
          <a:ln w="9360">
            <a:solidFill>
              <a:srgbClr val="0d0d0d"/>
            </a:solidFill>
            <a:miter/>
          </a:ln>
        </p:spPr>
      </p:pic>
      <p:sp>
        <p:nvSpPr>
          <p:cNvPr id="212" name="Title 1"/>
          <p:cNvSpPr/>
          <p:nvPr/>
        </p:nvSpPr>
        <p:spPr>
          <a:xfrm>
            <a:off x="685800" y="38088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articipatory diagnosis of the main postharvest problems that should be addressed by the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6"/>
          <p:cNvSpPr/>
          <p:nvPr/>
        </p:nvSpPr>
        <p:spPr>
          <a:xfrm>
            <a:off x="6858000" y="1981080"/>
            <a:ext cx="2057400" cy="1006920"/>
          </a:xfrm>
          <a:prstGeom prst="rect">
            <a:avLst/>
          </a:prstGeom>
          <a:solidFill>
            <a:srgbClr val="59aa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 collected from 255 farmers in 15 villag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itle 1"/>
          <p:cNvSpPr/>
          <p:nvPr/>
        </p:nvSpPr>
        <p:spPr>
          <a:xfrm>
            <a:off x="609480" y="5335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KEY RESULTS: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Percent Loss at different postharvest handling stag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42840" y="1828800"/>
          <a:ext cx="6934320" cy="2629080"/>
        </p:xfrm>
        <a:graphic>
          <a:graphicData uri="http://schemas.openxmlformats.org/drawingml/2006/table">
            <a:tbl>
              <a:tblPr/>
              <a:tblGrid>
                <a:gridCol w="1371600"/>
                <a:gridCol w="1066680"/>
                <a:gridCol w="533520"/>
                <a:gridCol w="685800"/>
                <a:gridCol w="609480"/>
                <a:gridCol w="685800"/>
                <a:gridCol w="654120"/>
                <a:gridCol w="588960"/>
                <a:gridCol w="738360"/>
              </a:tblGrid>
              <a:tr h="1050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op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eld loss (insects, rodents &amp; fungi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cki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ansportatio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cessi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ckagi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rketi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oki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tal los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2635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iz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6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9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1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5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2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6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.1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2635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igeon pea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.4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9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0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4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2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6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6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.8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2628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nflowe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8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6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3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3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.9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2635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m-si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3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7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9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0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.5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2628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. nut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2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8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3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.2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2628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orghu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0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3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2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0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3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2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.8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sp>
        <p:nvSpPr>
          <p:cNvPr id="216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2"/>
          <p:cNvSpPr/>
          <p:nvPr/>
        </p:nvSpPr>
        <p:spPr>
          <a:xfrm>
            <a:off x="7086600" y="1828800"/>
            <a:ext cx="1981080" cy="1844280"/>
          </a:xfrm>
          <a:prstGeom prst="rect">
            <a:avLst/>
          </a:prstGeom>
          <a:solidFill>
            <a:srgbClr val="59aa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mplications &amp; required action: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00"/>
                </a:solidFill>
                <a:latin typeface="Arial"/>
              </a:rPr>
              <a:t>9-20% loss of food;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Postharvest loss prevention technologies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28T10:24:56Z</dcterms:created>
  <dc:creator>Kinyoro Ibrahim</dc:creator>
  <dc:description/>
  <dc:language>en-US</dc:language>
  <cp:lastModifiedBy>Odhong, Jonathan (IITA)</cp:lastModifiedBy>
  <dcterms:modified xsi:type="dcterms:W3CDTF">2015-07-10T14:54:12Z</dcterms:modified>
  <cp:revision>60</cp:revision>
  <dc:subject/>
  <dc:title>Slide 1</dc:title>
</cp:coreProperties>
</file>